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CA7-E52F-43E1-A88E-018DD2F1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C06-C67E-4192-A964-A2E3513B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BF9-D7CA-4B53-946F-6D3EC05A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E7B-ABDB-4125-BF78-E3CD5057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E03-BCFA-40F4-9927-CB11ED42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638F-C939-4A55-9149-AE178CBF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4AD-B324-4B0F-871A-08F14BF1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980-DDDD-4CD1-843B-B6700FBF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72A-4355-4655-A0EA-EEAB770D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DD1-A3C4-4641-9386-442DCE8C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24B-9693-46D2-BECA-5582FF4A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6C3-9079-4F89-920E-A24FECA7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1C7E-3C55-4747-B5DD-873828213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ing in the lar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ckag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pter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packages ar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classes from a package by employing the ‘import’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roup classes within a package using the ‘package’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ope, and rules for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ava library 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.lang – supports Objects, String, number, exception and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.util – Random and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.io – text input and output streams for characters and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.net – classes that carry out network functions, socket programming, interacting with th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x.swing – GUI – such as JButtons, JLabel, JSl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x.awt – Abstract Windowing Toolkit, graphics like drawLin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.applet – classes that support Java Applets (programs run on web brow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 provide a way to group classes. Java library grouped into convenient pac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within a package can be used by giving the full name of the package and class – more convenient to use ‘import’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convenient to group classes of a large program in different packages. Give each a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 can be placed using the ‘package’ statement (first executable statement in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ope rules mean classes within the same package have special access rights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of Java libraries are grouped into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x.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create your own pack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s an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572000" y="5409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572000" y="48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572000" y="4343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classes and the import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libraries provide thousands of classes, grouped in packages for conven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javax.swing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l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the import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utton button = new JButton(“G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would have to include the full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x.swing.JButt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* means import all classes from the package “a wildcar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utomatically import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lang and the current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 java.lang package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, Thread, Math, Integer and 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packages using the package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programs may consist of tens or hundreds of classes – convenient to group them into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trol complexity of a larg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within the same package have access rights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in a package are all similar or relate strongly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ose a program consists of three groups of classes and we create packages for each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the user interface -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database -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the central logic of the problem -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gui; // must be on the first executable line in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LogIn { …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ackages start with lower case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ackage is omitted all classes by default placed into a package with no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cope rules with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within same package can access each other very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write a method prefaced by private or public or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fix determines who can access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– available to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– only accessable within tha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ed – access within class and any sub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efix – available within th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ckages, files and fol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each class in its own file (with .java exten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 file the same name as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folder with the same name as th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ll files for that package in the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package folder in the same folder as the file that holds your code that imports th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nsure compiler can find all the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access rules for prefixes apply to classes, constructors an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6:59:40Z</dcterms:created>
  <dc:creator> </dc:creator>
  <dc:description/>
  <dc:language>en-US</dc:language>
  <cp:lastModifiedBy> </cp:lastModifiedBy>
  <dcterms:modified xsi:type="dcterms:W3CDTF">2005-05-12T17:00:29Z</dcterms:modified>
  <cp:revision>1</cp:revision>
  <dc:subject/>
  <dc:title>Programming in the large packages Chapter 24</dc:title>
</cp:coreProperties>
</file>